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B3FF-1051-4EA1-8DDF-F9E9ECB9E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7A9B-691E-4B57-850E-D7ED25E1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86BFA-A6B6-4A9D-B0A7-B9AECB1FB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55A99-C0FB-4723-8C42-AB8AEEBBE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D6A5-2386-47D4-A825-E438FC79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8DF1-DEAD-44E2-9109-77950A73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C6B7-EF6C-4B62-8C23-5142A808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FAD1-9593-48AC-986D-602FD094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E4A4-CEF6-4AD6-8BAF-22A01562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2B44-5F2F-4F5A-821B-7417D148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554F-B40A-46BD-A3DB-9174C202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24F7-52AA-489F-9D4C-AD9783EF7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32F5-94E5-4605-92A5-1BB71EDA0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599920" y="5791320"/>
            <a:ext cx="4007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Church Membership</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295280" y="380988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5:2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r>
              <a:rPr b="0" lang="en-US" sz="2800" spc="-1" strike="noStrike">
                <a:solidFill>
                  <a:srgbClr val="000000"/>
                </a:solidFill>
                <a:latin typeface="Arial"/>
              </a:rPr>
              <a:t> For the husband is head of the wife, as also Christ is head of the church; and He is the Savior of the body.</a:t>
            </a:r>
            <a:endParaRPr b="0" lang="en-US" sz="2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295280" y="4800600"/>
            <a:ext cx="7010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Greet one another with a holy kiss. The churches of Christ greet you.</a:t>
            </a:r>
            <a:endParaRPr b="0" lang="en-US" sz="2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295280" y="4575240"/>
            <a:ext cx="7543800" cy="19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1 Corinthians 1: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r>
              <a:rPr b="0" lang="en-US" sz="25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5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295280" y="3733920"/>
            <a:ext cx="754380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Acts 2:41, 4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a:t>
            </a:r>
            <a:r>
              <a:rPr b="0" lang="en-US" sz="2400" spc="-1" strike="noStrike">
                <a:solidFill>
                  <a:srgbClr val="000000"/>
                </a:solidFill>
                <a:latin typeface="Arial"/>
              </a:rPr>
              <a:t> Then those who gladly received his word were baptized; and that day about three thousand souls were added to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a:t>
            </a:r>
            <a:r>
              <a:rPr b="0" lang="en-US" sz="2400" spc="-1" strike="noStrike">
                <a:solidFill>
                  <a:srgbClr val="000000"/>
                </a:solidFill>
                <a:latin typeface="Arial"/>
              </a:rPr>
              <a:t> …praising God and having favor with all the people. And the Lord added to the church daily those who were being saved.</a:t>
            </a:r>
            <a:endParaRPr b="0" lang="en-US" sz="24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95280" y="373392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4-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There is one body and one Spirit, just as you were called in one hope of your cal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one Lord, one faith, one baptis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0" lang="en-US" sz="2800" spc="-1" strike="noStrike">
                <a:solidFill>
                  <a:srgbClr val="000000"/>
                </a:solidFill>
                <a:latin typeface="Arial"/>
              </a:rPr>
              <a:t> one God and Father of all, who is above all, and through all, and in you all.</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295280" y="4952880"/>
            <a:ext cx="7543800" cy="1668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1 Corinthians 1:2</a:t>
            </a:r>
            <a:endParaRPr b="0" lang="en-US" sz="2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0" lang="en-US" sz="23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3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09480" y="2666880"/>
            <a:ext cx="8001000" cy="2409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cc"/>
                </a:solidFill>
                <a:uFillTx/>
                <a:latin typeface="Arial"/>
              </a:rPr>
              <a:t>Acts 9:26-2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6)</a:t>
            </a:r>
            <a:r>
              <a:rPr b="0" lang="en-US" sz="1900" spc="-1" strike="noStrike">
                <a:solidFill>
                  <a:srgbClr val="000000"/>
                </a:solidFill>
                <a:latin typeface="Arial"/>
              </a:rPr>
              <a:t> And when Saul had come to Jerusalem, he tried to join the disciples; but they were all afraid of him, and did not believe that he was a discipl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7)</a:t>
            </a:r>
            <a:r>
              <a:rPr b="0" lang="en-US" sz="1900" spc="-1" strike="noStrike">
                <a:solidFill>
                  <a:srgbClr val="000000"/>
                </a:solidFill>
                <a:latin typeface="Arial"/>
              </a:rPr>
              <a:t> But Barnabas took him and brought him to the apostles. And he declared to them how he had seen the Lord on the road, and that He had spoken to him, and how he had preached boldly at Damascus in the name of Jesu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8)</a:t>
            </a:r>
            <a:r>
              <a:rPr b="0" lang="en-US" sz="1900" spc="-1" strike="noStrike">
                <a:solidFill>
                  <a:srgbClr val="000000"/>
                </a:solidFill>
                <a:latin typeface="Arial"/>
              </a:rPr>
              <a:t> So he was with them at Jerusalem, coming in and going out.</a:t>
            </a:r>
            <a:endParaRPr b="0" lang="en-US" sz="19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s there Scriptural authority for any collective organization larger than the local church? Explain your answer.</a:t>
            </a:r>
            <a:endParaRPr b="0" lang="en-US" sz="2800" spc="-1" strike="noStrike">
              <a:solidFill>
                <a:srgbClr val="000000"/>
              </a:solidFill>
              <a:latin typeface="Arial"/>
            </a:endParaRPr>
          </a:p>
        </p:txBody>
      </p:sp>
      <p:sp>
        <p:nvSpPr>
          <p:cNvPr id="13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5</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the organizational makeup of the local church (Philippians 1:1)? </a:t>
            </a:r>
            <a:endParaRPr b="0" lang="en-US" sz="2800" spc="-1" strike="noStrike">
              <a:solidFill>
                <a:srgbClr val="000000"/>
              </a:solidFill>
              <a:latin typeface="Arial"/>
            </a:endParaRPr>
          </a:p>
        </p:txBody>
      </p:sp>
      <p:sp>
        <p:nvSpPr>
          <p:cNvPr id="15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5</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1 Peter 5:1-2, what are elders to do? </a:t>
            </a:r>
            <a:endParaRPr b="0" lang="en-US" sz="2800" spc="-1" strike="noStrike">
              <a:solidFill>
                <a:srgbClr val="000000"/>
              </a:solidFill>
              <a:latin typeface="Arial"/>
            </a:endParaRPr>
          </a:p>
        </p:txBody>
      </p:sp>
      <p:sp>
        <p:nvSpPr>
          <p:cNvPr id="15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5</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6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n light of Hebrews 13:17, what is the responsibility of members to the elders? </a:t>
            </a:r>
            <a:endParaRPr b="0" lang="en-US" sz="2800" spc="-1" strike="noStrike">
              <a:solidFill>
                <a:srgbClr val="000000"/>
              </a:solidFill>
              <a:latin typeface="Arial"/>
            </a:endParaRPr>
          </a:p>
        </p:txBody>
      </p:sp>
      <p:sp>
        <p:nvSpPr>
          <p:cNvPr id="16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5</a:t>
            </a:r>
            <a:endParaRPr b="0" lang="en-US" sz="2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295280" y="434340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95280" y="4038480"/>
            <a:ext cx="7467840" cy="25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Ephesians 4:15-16</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5)</a:t>
            </a:r>
            <a:r>
              <a:rPr b="0" lang="en-US" sz="2300" spc="-1" strike="noStrike">
                <a:solidFill>
                  <a:srgbClr val="000000"/>
                </a:solidFill>
                <a:latin typeface="Arial"/>
              </a:rPr>
              <a:t> …but, speaking the truth in love, may grow up in all things into Him who is the head -- Chris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6)</a:t>
            </a:r>
            <a:r>
              <a:rPr b="0" lang="en-US" sz="2300" spc="-1" strike="noStrike">
                <a:solidFill>
                  <a:srgbClr val="000000"/>
                </a:solidFill>
                <a:latin typeface="Arial"/>
              </a:rPr>
              <a:t> from whom the whole body, joined and knit together by what every joint supplies, according to the effective working by which every part does its share, causes growth of the body for the edifying of itself in love.</a:t>
            </a:r>
            <a:endParaRPr b="0" lang="en-US" sz="23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295280" y="4038480"/>
            <a:ext cx="746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Hebrews 10:24-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0" lang="en-US" sz="2400" spc="-1" strike="noStrike">
                <a:solidFill>
                  <a:srgbClr val="000000"/>
                </a:solidFill>
                <a:latin typeface="Arial"/>
              </a:rPr>
              <a:t> And let us consider one another in order to stir up love and good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r>
              <a:rPr b="0" lang="en-US" sz="2400" spc="-1" strike="noStrike">
                <a:solidFill>
                  <a:srgbClr val="000000"/>
                </a:solidFill>
                <a:latin typeface="Arial"/>
              </a:rPr>
              <a:t> not forsaking the assembling of ourselves together, as is the manner of some, but exhorting one another, and so much the more as you see the Day approaching.</a:t>
            </a:r>
            <a:endParaRPr b="0" lang="en-US" sz="24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295280" y="4038480"/>
            <a:ext cx="746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3: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Let the word of Christ dwell in you richly in all wisdom, teaching and admonishing one another in psalms and hymns and spiritual songs, singing with grace in your hearts to the Lord.</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280" y="4038480"/>
            <a:ext cx="739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Galatians 6: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Bear one another's burdens, and so fulfill the law of Christ.</a:t>
            </a:r>
            <a:endParaRPr b="0" lang="en-US" sz="24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95280" y="4267080"/>
            <a:ext cx="723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4: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Therefore comfort one another with these words.</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95280" y="4267080"/>
            <a:ext cx="723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3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r>
              <a:rPr b="0" lang="en-US" sz="2800" spc="-1" strike="noStrike">
                <a:solidFill>
                  <a:srgbClr val="000000"/>
                </a:solidFill>
                <a:latin typeface="Arial"/>
              </a:rPr>
              <a:t> And be kind to one another, tenderhearted, forgiving one another, just as God in Christ forgave you.</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ponsibilities we have in our relationship with God are carried out in our roles as members of the Lord’s church.</a:t>
            </a:r>
            <a:endParaRPr b="0" lang="en-US" sz="2800" spc="-1" strike="noStrike">
              <a:solidFill>
                <a:srgbClr val="000000"/>
              </a:solidFill>
              <a:latin typeface="Arial"/>
            </a:endParaRPr>
          </a:p>
          <a:p>
            <a:pPr marL="8128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4114800"/>
            <a:ext cx="7315200" cy="25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1:2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7)</a:t>
            </a:r>
            <a:r>
              <a:rPr b="0" lang="en-US" sz="2600" spc="-1" strike="noStrike">
                <a:solidFill>
                  <a:srgbClr val="000000"/>
                </a:solidFill>
                <a:latin typeface="Arial"/>
              </a:rPr>
              <a:t> Only let your conduct be worthy of the gospel of Christ, so that whether I come and see you or am absent, I may hear of your affairs, that you stand fast in one spirit, with one mind striving together for the faith of the gospel…</a:t>
            </a:r>
            <a:endParaRPr b="0" lang="en-US" sz="26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95280" y="380988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6: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And I also say to you that you are Peter, and on this rock I will build My church, and the gates of Hades shall not prevail against it."</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0T18:10:32Z</dcterms:modified>
  <cp:revision>33</cp:revision>
  <dc:subject/>
  <dc:title>Slide 1</dc:title>
</cp:coreProperties>
</file>